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821-0104-4C6D-9EAE-9CC19BAE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9D5-423D-4C32-891C-B2CBBEDF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DDA-6213-431E-9B30-62632D0E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7D6-2DB8-4402-B13B-443B6DFD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05C-7361-45D6-8972-67614142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CF6-FA77-4256-B7DD-7A31616E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13B-D043-47BD-8688-88064335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55D-7181-4B2B-B305-BA86252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CC5-979A-48B9-89D5-E52ADD53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8F1-E1F3-4EE8-BEA8-2D2C4E03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2F8-B149-4248-8426-C25B1C9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C18-54BF-4A1D-91E6-83298A9A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773B-D309-463F-B2F8-8EB03C9B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5-08-24T16:22:30Z</dcterms:modified>
  <cp:revision>8</cp:revision>
  <dc:subject/>
  <dc:title>PowerPoint Presentation</dc:title>
</cp:coreProperties>
</file>